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757-A84C-4DAC-B376-9BA241CA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783-3549-45FD-85F3-06D88D18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9FD-FD87-4883-8CD2-3448F415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BD5-C0AF-459D-BAAB-ADB54DE3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B72A-6DA1-41CC-AF0A-8AA35E50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4938-E428-4696-96B5-5852C8A9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7771-CB95-4B5F-A75E-3520FBB1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1550-9485-4892-A1C7-1D805E35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EE91-A079-4F99-9B64-DCAB694A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6C82-7865-4FE3-A96E-3A97EA65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409A-2A16-4AB8-AD85-806614A1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AEA-718F-46BE-86BB-572B2D6E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097E-9237-4A4D-A79A-F92B070E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D034-E2FA-47E5-BF70-F51F106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347A-D20F-473D-85DE-32214E7F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55AF-BBA2-40A2-A80C-2CEF8EB4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FECE-9F2A-4046-A304-44405F8F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22AF-E1A5-471C-AACB-23D0BF1D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9BAA-3FE7-4B51-BB95-6746DC9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0615-2ED0-4D28-98DA-55B4A2AA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B6A0-677E-4628-BAA2-2BBE58AD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109ED-733F-4D18-B7DC-36AE99C8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8DC-21F0-468F-A353-B3B2CB95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A643-E18B-47FF-9077-2E375C39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BC33-AF02-4A4C-A62B-DB2ACA9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5EFC-8924-485A-9807-F9EDA3C0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2D4F-E73D-461D-9C7A-7F174088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39B9-379E-4F2B-A679-F0770DBD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FBB4-6E34-40C9-8DDE-E88C8E76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21FE-2DA5-4520-9D5B-16301C88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D5C2-5E2E-440F-BE98-10F374B8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BD1F-B55D-484B-998E-3EDC2B08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151D-3FE9-4F25-ABA4-0ABDDBFD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27A-F251-477F-B91D-03BF8248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9AD1-E760-45E3-9764-ABBEDD6C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D778A-EE53-4F26-9401-9AD58627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7ECD-E4E4-4FED-BD65-FF5688BD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5DD8F-FB1A-4131-B7F3-4C9AAACD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0EFF-49A8-4B12-9EDE-34AF7113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67C7F-4ED9-41F7-AA48-D9C26087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DB460-53C7-405A-993F-1B29AD16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1542-BCBF-443B-AD31-3729C440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9D0F-F47C-4329-9124-D4102A35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D70D7-A028-4448-A425-B7DC5586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D8C-33E3-4585-95D7-EB1258D9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0245A-4A43-4464-9772-478EA157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EBFDB-B578-4B90-B3FA-0D65E502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8626-F5E5-4BB3-A1FD-59033D5A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1A8C-A24B-4DD0-8B58-A6A4D15B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13FDB-0771-474A-83A9-D661FE46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631CB-1D2C-4ACF-961A-8A794D91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954E9-D974-418F-B813-3256BC6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E681-8E33-4143-BCF8-9236801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F231-450E-464A-B3EA-3D66A954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3BCF2-403E-4828-8F9F-1FB56E34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3A0-DEE2-4736-A717-6352442E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DFA8-E5F7-4612-A1BE-9F34B07A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A6E-1F9B-4E5C-884D-AEB37481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0FE-9010-4843-9217-336517B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3A9-C2F6-4553-8A0C-EEA7075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5222-991B-43F2-A198-CD62A9A61F0A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9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10 Yuvarlatılmış Dikdörtgen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11 Dikdörtgen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14 Dikdörtgen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15 Dikdörtgen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2BA3-1686-4197-9780-E29E60360DB8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9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10 Yuvarlatılmış Dikdörtgen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10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11 Dikdörtgen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14 Dikdörtgen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15 Dikdörtgen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77A6-9DB6-46A6-88D8-FA16D892A662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9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10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A7C9-FAE0-40CC-B6B3-5EB9015E3131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8c6a"/>
            </a:gs>
            <a:gs pos="100000">
              <a:srgbClr val="fbe0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8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7 Yuvarlatılmış Dikdörtgen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9 Dikdörtgen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10 Dikdörtgen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11 Dikdörtgen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2EB-B483-434C-BED9-A7267884A152}" type="slidenum">
              <a:rPr b="0" lang="tr-T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  <a:ea typeface="Arial"/>
              </a:rPr>
              <a:t>DÜZLEMDEKİ DOĞRUL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3. Düzlemde Üç Doğrunun Birbirlerine Göre Durumları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Üç doğru paralel olabil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1 // d2 // d3            d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3 = Ø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   Düzlemde paralel olan iki doğrudan birine paralel olan doğru diğerine de paraleld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1 // d2 ve d2 // d3 ise d1 // d3 olu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6" name="3 Resim" descr="1111.jpg"/>
          <p:cNvPicPr/>
          <p:nvPr/>
        </p:nvPicPr>
        <p:blipFill>
          <a:blip r:embed="rId1"/>
          <a:stretch/>
        </p:blipFill>
        <p:spPr>
          <a:xfrm>
            <a:off x="2700360" y="3860640"/>
            <a:ext cx="3384360" cy="2632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Yalnız ikisi paralel ise, üçüncü doğru paralel doğruları birer noktada kese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1 // l2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1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3 = {A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 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l3 = {B}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üzlemde paralel iki doğrudan birini kesen bir doğru, diğerini de kes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9" name="3 Resim" descr="2222.jpg"/>
          <p:cNvPicPr/>
          <p:nvPr/>
        </p:nvPicPr>
        <p:blipFill>
          <a:blip r:embed="rId1"/>
          <a:stretch/>
        </p:blipFill>
        <p:spPr>
          <a:xfrm>
            <a:off x="4500720" y="2349360"/>
            <a:ext cx="403200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Üç doğru bir noktada kesişebil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k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 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k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 ∩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k3 = {P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Üç doğru ikişer ikişer kesişebil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2 = {A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3 = {B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3 = {C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t3 = 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3 Resim" descr="222.gif"/>
          <p:cNvPicPr/>
          <p:nvPr/>
        </p:nvPicPr>
        <p:blipFill>
          <a:blip r:embed="rId1"/>
          <a:stretch/>
        </p:blipFill>
        <p:spPr>
          <a:xfrm>
            <a:off x="1619280" y="4437000"/>
            <a:ext cx="593568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4.Düzlemde Nokta İle Doğrunun Durumları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oğrunun üzerindeki bir noktadan geçen ve bu doğruya dik olan bir tek doğru çizilebil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2 doğrusu A'dan geçer ve d1 e dikt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oğrunun dışındaki bir noktadan geçen ve bu doğruya dik olan bir tek doğru çizilebil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3 doğrusu B'den geçer ve d1 e dikt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oğrunun dışındaki bir noktadan geçen ve bu doğruya paralel olan bir tek doğru çizilebil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2 doğrusu A'dan geçer ve l1 ile paraleld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3 Resim" descr="geo_152.gif"/>
          <p:cNvPicPr/>
          <p:nvPr/>
        </p:nvPicPr>
        <p:blipFill>
          <a:blip r:embed="rId1"/>
          <a:stretch/>
        </p:blipFill>
        <p:spPr>
          <a:xfrm>
            <a:off x="1116000" y="3500280"/>
            <a:ext cx="7128000" cy="208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5. Doğruların Düzlemde Ayırdığı Bölge Sayısı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400" y="184464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Genel olarak, n adet doğru bir düzlemi en a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(n + 1) bölgeye (paralellik hali), en fazl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Perpetua"/>
              </a:rPr>
              <a:t>                                                 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ölgeye ayır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Perpetu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3 Resim" descr="geo_153.gif"/>
          <p:cNvPicPr/>
          <p:nvPr/>
        </p:nvPicPr>
        <p:blipFill>
          <a:blip r:embed="rId1"/>
          <a:stretch/>
        </p:blipFill>
        <p:spPr>
          <a:xfrm>
            <a:off x="1835280" y="2997360"/>
            <a:ext cx="2592360" cy="110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İki doğru, bir düzlemi en az 3 bölgeye, en fazla 4 bölgeye ayır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3" name="3 Resim" descr="geo_154.gif"/>
          <p:cNvPicPr/>
          <p:nvPr/>
        </p:nvPicPr>
        <p:blipFill>
          <a:blip r:embed="rId1"/>
          <a:stretch/>
        </p:blipFill>
        <p:spPr>
          <a:xfrm>
            <a:off x="900000" y="3141720"/>
            <a:ext cx="7285320" cy="175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77336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Üç doğru, bir düzlemi en az 4 bölgeye, en fazla 7 bölgeye ayır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6" name="3 Resim" descr="geo_155.gif"/>
          <p:cNvPicPr/>
          <p:nvPr/>
        </p:nvPicPr>
        <p:blipFill>
          <a:blip r:embed="rId1"/>
          <a:stretch/>
        </p:blipFill>
        <p:spPr>
          <a:xfrm>
            <a:off x="971640" y="3141720"/>
            <a:ext cx="7272360" cy="221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ört doğru, bir düzlemi en az 5 bölgeye, en fazla 11 bölgeye ayır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3 Resim" descr="geo_156.gif"/>
          <p:cNvPicPr/>
          <p:nvPr/>
        </p:nvPicPr>
        <p:blipFill>
          <a:blip r:embed="rId1"/>
          <a:stretch/>
        </p:blipFill>
        <p:spPr>
          <a:xfrm>
            <a:off x="1258920" y="3035160"/>
            <a:ext cx="6553080" cy="226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2" name="3 Dikdörtgen" descr=""/>
          <p:cNvPicPr/>
          <p:nvPr/>
        </p:nvPicPr>
        <p:blipFill>
          <a:blip r:embed="rId1"/>
          <a:stretch/>
        </p:blipFill>
        <p:spPr>
          <a:xfrm>
            <a:off x="2840040" y="4211640"/>
            <a:ext cx="5767560" cy="1658880"/>
          </a:xfrm>
          <a:prstGeom prst="rect">
            <a:avLst/>
          </a:prstGeom>
          <a:ln w="0">
            <a:noFill/>
          </a:ln>
        </p:spPr>
      </p:pic>
      <p:pic>
        <p:nvPicPr>
          <p:cNvPr id="283" name="4 Dikdörtgen" descr=""/>
          <p:cNvPicPr/>
          <p:nvPr/>
        </p:nvPicPr>
        <p:blipFill>
          <a:blip r:embed="rId2"/>
          <a:stretch/>
        </p:blipFill>
        <p:spPr>
          <a:xfrm>
            <a:off x="1255680" y="1816200"/>
            <a:ext cx="699300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d34817"/>
                </a:solidFill>
                <a:latin typeface="Franklin Gothic Book"/>
              </a:rPr>
              <a:t>DOĞRU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İki ucuna ok işareti koyulmuş düz bir çizgi ile gösterilir. Doğru küçük harfle veya üzerindeki iki nokta ile gösteril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 »d doğrusu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veya AB doğrusu diye okunur. Buradaki A ve B noktaları doğrunun birer elemanıdı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A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 ve B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 biçiminde yazılı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3 Resim" descr="geo_1528.gif"/>
          <p:cNvPicPr/>
          <p:nvPr/>
        </p:nvPicPr>
        <p:blipFill>
          <a:blip r:embed="rId1"/>
          <a:stretch/>
        </p:blipFill>
        <p:spPr>
          <a:xfrm>
            <a:off x="1547640" y="3141720"/>
            <a:ext cx="5554800" cy="59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77336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Farklı iki noktadan bir tek doğru geç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Farklı iki nokta bir tek doğru belirt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oğru bir boyutludur. Yani sadece uzunluk söz konusudu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d34817"/>
                </a:solidFill>
                <a:latin typeface="Franklin Gothic Book"/>
              </a:rPr>
              <a:t>DÜZL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Uzunluğuna ve genişliğine doğru sonsuza uzayıp giden düz bir yüzeydi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üzlem iki boyutludur. Sayfa üzerinde paralelkenar gibi gösterilebilir. Paralelkenarın köşesine harfle ismi yazılabili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-13824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55640" y="692280"/>
            <a:ext cx="77724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Şekildeki düzlem E düzlemi diye isimlendirilir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Burada A, B ve C noktaları E düzlemi üzerindedir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Dolayısıyla B ve C noktalarından geçen d doğrusu da 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                       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düzlemi üzerindedir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A </a:t>
            </a:r>
            <a:r>
              <a:rPr b="0" lang="el-GR" sz="22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B </a:t>
            </a:r>
            <a:r>
              <a:rPr b="0" lang="el-GR" sz="22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C </a:t>
            </a:r>
            <a:r>
              <a:rPr b="0" lang="el-GR" sz="22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d </a:t>
            </a:r>
            <a:r>
              <a:rPr b="0" lang="el-GR" sz="2200" spc="-1" strike="noStrike">
                <a:solidFill>
                  <a:srgbClr val="002060"/>
                </a:solidFill>
                <a:latin typeface="Arial"/>
                <a:ea typeface="Arial"/>
              </a:rPr>
              <a:t>ϵ</a:t>
            </a:r>
            <a:r>
              <a:rPr b="0" lang="tr-TR" sz="2200" spc="-1" strike="noStrike">
                <a:solidFill>
                  <a:srgbClr val="002060"/>
                </a:solidFill>
                <a:latin typeface="Arial"/>
                <a:ea typeface="Arial"/>
              </a:rPr>
              <a:t> 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5 Resim" descr="geo_1529.gif"/>
          <p:cNvPicPr/>
          <p:nvPr/>
        </p:nvPicPr>
        <p:blipFill>
          <a:blip r:embed="rId1"/>
          <a:stretch/>
        </p:blipFill>
        <p:spPr>
          <a:xfrm>
            <a:off x="2268360" y="1989000"/>
            <a:ext cx="288468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Aynı doğru üzerinde olmayan farklı üç nokta bir düzlem belirti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ir doğru ile, bu doğru üzerinde olmayan bir nokta, bir düzlem belirti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ir doğrunun farklı iki noktası bir düzlem üzerinde ise bu doğru (doğrunun bütün noktaları) bu düzlem üzerinded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1. Düzlemle Doğrunun Durumları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ir doğru düzlemin ya üzerinde, ya dışındadır veya düzlemi bir noktada keser.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a = d1  ;   d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a = Ø   ;  d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 = {K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K noktası kesişen bir doğru ile bir düzlemin arakesitidir.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10 Resim" descr="geo_1530.gif"/>
          <p:cNvPicPr/>
          <p:nvPr/>
        </p:nvPicPr>
        <p:blipFill>
          <a:blip r:embed="rId1"/>
          <a:stretch/>
        </p:blipFill>
        <p:spPr>
          <a:xfrm>
            <a:off x="1908000" y="3573360"/>
            <a:ext cx="5313600" cy="206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d34817"/>
                </a:solidFill>
                <a:latin typeface="Arial"/>
                <a:ea typeface="Arial"/>
              </a:rPr>
              <a:t>2. Düzlemde  İki Doğrunun Birbirine Göre Durumları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Paralel farklı iki doğru bir tek düzlem belirt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Her paralel farklı iki doğrudan bir tek düzlem geç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Kesişen farklı iki doğru bir tek düzlem belirtir. Her kesişen farklı iki doğrudan bir tek düzlem geç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Bir düzlemde farklı iki doğru ya paraleldir, ya da bir noktada kesişirl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d2 = Ø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l1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  <a:ea typeface="Arial"/>
              </a:rPr>
              <a:t>∩</a:t>
            </a: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l2 = {A}</a:t>
            </a:r>
            <a:br>
              <a:rPr sz="2600"/>
            </a:br>
            <a:r>
              <a:rPr b="0" lang="tr-TR" sz="2600" spc="-1" strike="noStrike">
                <a:solidFill>
                  <a:srgbClr val="002060"/>
                </a:solidFill>
                <a:latin typeface="Arial"/>
                <a:ea typeface="Arial"/>
              </a:rPr>
              <a:t>   Üst üste çizilen çakışık doğrular bir tek doğru kabul edilir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3 Resim" descr="geo_1531.gif"/>
          <p:cNvPicPr/>
          <p:nvPr/>
        </p:nvPicPr>
        <p:blipFill>
          <a:blip r:embed="rId1"/>
          <a:stretch/>
        </p:blipFill>
        <p:spPr>
          <a:xfrm>
            <a:off x="1332000" y="1916280"/>
            <a:ext cx="626580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8:36:57Z</dcterms:created>
  <dc:creator>ugur</dc:creator>
  <dc:description/>
  <dc:language>en-US</dc:language>
  <cp:lastModifiedBy>uqur</cp:lastModifiedBy>
  <dcterms:modified xsi:type="dcterms:W3CDTF">2011-01-12T20:10:26Z</dcterms:modified>
  <cp:revision>34</cp:revision>
  <dc:subject/>
  <dc:title>DÜZLEMDEKİ DOĞRULAR</dc:title>
</cp:coreProperties>
</file>